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03320" y="694800"/>
            <a:ext cx="484488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dt" idx="13"/>
          </p:nvPr>
        </p:nvSpPr>
        <p:spPr>
          <a:xfrm>
            <a:off x="38811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4"/>
          </p:nvPr>
        </p:nvSpPr>
        <p:spPr>
          <a:xfrm>
            <a:off x="-3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5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6F053-9594-4036-8486-65F13A9A2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9B13-C775-4196-A0C0-A88A2F969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3945F-5737-4731-A668-AD89D9A67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E435B-60DA-402D-93F1-D95D29503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C6B94-4DCF-4E30-B4C2-4F9E360DD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2F1F8-E676-4C21-B406-3145D0318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A10AE-1119-4DB0-8F77-C6D2EBC75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0A3CA-1F5C-4A79-BFF0-22B1A884A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80EE-A764-420B-9945-D880AE4E2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1E59A-1D34-47EC-B175-8ACFE480B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E7F9A-C9A5-4B25-A141-0FF8EDD62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F25-0311-486E-A295-C0397431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59D-39A4-4B7E-98B8-ADABEED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82D-9451-49DB-9ED7-120EE80D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08D-B870-4629-87EE-B7E0DB37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66DE-D9CC-4CE4-8DAF-9CAAB115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29F-B06E-4F2B-A460-C08518F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0D0A-B7CC-4473-ABE5-04CA7F52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9952-347F-4F1C-8711-F02C7BB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AEF8-E9B2-49B5-A5E4-C0EDC1A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3CD-5021-4D6B-B35E-5F36B38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F67A-18A4-40B3-BC16-B5D6300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CBE-0AA7-4E4A-81C6-3067322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B07F-45B5-4E67-BD31-9B70D0D6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E750-430D-43FA-A519-B8A8447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FA00-4E2B-4DC1-AA61-FDCD3DE6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F059-E171-4F79-839D-17A0F550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2E39-E947-4D8A-BCAB-24908F6A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31D3-4BDF-4E28-AF50-43A0127D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C4E9-B1D4-43EB-91A0-6354DAA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466B-4530-41B1-AE4D-F0EC9749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5574-282B-4C6D-B08F-4F071694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53AA-568F-4989-BAD1-BF50394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5D0-F8FC-48E4-ABDB-61BAB82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AE03-9BD9-45AE-AC07-C6B025A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E5F4-1933-4339-AC50-8C63727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6F2B-2C89-4C9B-AB9E-DAE95FC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E9CD-8120-4ED3-8B37-87ACFEE1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2367-FCA1-4553-A153-9CB4A15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5857-BF2B-4401-AB95-0F0A8526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24F3-34D6-42A0-BD43-CEE1F99C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DE08-82DB-4CF6-A901-E14EC41C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B6EC-81E0-4F95-BBFA-A85DC10E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5C6D-6402-4383-831B-14234BC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2C2-52F5-454D-B58D-4FDE3EC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64C0-BFE4-44D9-A7B6-F7D770E9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AEE3-8EB0-44FA-8F03-831175F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138D-9ABD-456F-8707-CC0A10E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2AFC-4B4E-4410-A77A-F9314B2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BC9D-5A94-4EE2-A187-328196E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8781-2615-4BE3-A13C-5590BE2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5AD3-93D9-4FEC-8799-9A704B4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0BAF-6E5E-437E-B6F5-FC5122DB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F186-7F95-4EDC-B833-C1DA58E0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9DB-05F3-4019-AE43-AB59DD6F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A23-2AF1-4E1E-819F-0DC777B9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F67-8862-4A4D-B05D-D0FA1EA5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118-8BF7-4965-A8E7-C3ACA93F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E29-4C7F-4A1F-9D72-08B2199A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5800" cy="6848640"/>
            <a:chOff x="1440" y="0"/>
            <a:chExt cx="9145800" cy="6848640"/>
          </a:xfrm>
        </p:grpSpPr>
        <p:sp>
          <p:nvSpPr>
            <p:cNvPr id="1" name="Freeform 2"/>
            <p:cNvSpPr/>
            <p:nvPr/>
          </p:nvSpPr>
          <p:spPr>
            <a:xfrm>
              <a:off x="8008920" y="4168800"/>
              <a:ext cx="1138320" cy="267984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50360" y="6022800"/>
              <a:ext cx="596880" cy="82584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6920" y="6689880"/>
              <a:ext cx="130320" cy="15876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7200" y="0"/>
              <a:ext cx="8089920" cy="6848640"/>
              <a:chOff x="457200" y="0"/>
              <a:chExt cx="8089920" cy="684864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7640" y="0"/>
                <a:ext cx="11088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3920" y="0"/>
                <a:ext cx="27288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30880" y="0"/>
                <a:ext cx="53172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5600" y="0"/>
                <a:ext cx="67464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4360" y="0"/>
                <a:ext cx="88272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40640" y="0"/>
                <a:ext cx="109224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8760" y="0"/>
                <a:ext cx="136836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8440" y="0"/>
                <a:ext cx="23508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2640" y="0"/>
                <a:ext cx="47304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6160" y="0"/>
                <a:ext cx="67140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90640" y="0"/>
                <a:ext cx="90972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4560" y="0"/>
                <a:ext cx="116676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7200" y="0"/>
                <a:ext cx="133020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360" y="4605480"/>
              <a:ext cx="959040" cy="224316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360" y="6175440"/>
              <a:ext cx="358920" cy="67320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1960" y="0"/>
              <a:ext cx="1558800" cy="283212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2440" y="0"/>
              <a:ext cx="1138320" cy="13381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6360" y="0"/>
              <a:ext cx="644400" cy="6541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360" y="0"/>
              <a:ext cx="1359000" cy="22334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360" y="0"/>
              <a:ext cx="930600" cy="94788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360" y="0"/>
              <a:ext cx="425520" cy="3967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3920"/>
              <a:ext cx="91378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40040"/>
              <a:ext cx="913788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7800"/>
              <a:ext cx="91378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440"/>
              <a:ext cx="9137880" cy="2490480"/>
              <a:chOff x="1440" y="622440"/>
              <a:chExt cx="9137880" cy="249048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80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292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940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440"/>
                <a:ext cx="91378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5560"/>
              <a:ext cx="91378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1680"/>
              <a:ext cx="913788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31B1B-0D81-4CAE-86C5-41EE7C3B68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5440" cy="6848640"/>
            <a:chOff x="0" y="0"/>
            <a:chExt cx="9145440" cy="6848640"/>
          </a:xfrm>
        </p:grpSpPr>
        <p:sp>
          <p:nvSpPr>
            <p:cNvPr id="79" name="Freeform 2"/>
            <p:cNvSpPr/>
            <p:nvPr/>
          </p:nvSpPr>
          <p:spPr>
            <a:xfrm>
              <a:off x="8007480" y="4168800"/>
              <a:ext cx="1137960" cy="267984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8560" y="6022800"/>
              <a:ext cx="596880" cy="82584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5480" y="6689880"/>
              <a:ext cx="129960" cy="15876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760" y="0"/>
              <a:ext cx="8089920" cy="6848640"/>
              <a:chOff x="455760" y="0"/>
              <a:chExt cx="8089920" cy="684864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5840" y="0"/>
                <a:ext cx="11124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902120" y="0"/>
                <a:ext cx="27324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9080" y="0"/>
                <a:ext cx="53208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4160" y="0"/>
                <a:ext cx="67464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2560" y="0"/>
                <a:ext cx="88272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8840" y="0"/>
                <a:ext cx="109224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6960" y="0"/>
                <a:ext cx="136872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7000" y="0"/>
                <a:ext cx="23472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21200" y="0"/>
                <a:ext cx="47304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4360" y="0"/>
                <a:ext cx="67176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9200" y="0"/>
                <a:ext cx="90972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760" y="0"/>
                <a:ext cx="116676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760" y="0"/>
                <a:ext cx="133020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920" y="4605480"/>
              <a:ext cx="959040" cy="224316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920" y="6175440"/>
              <a:ext cx="358920" cy="67320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80160" y="0"/>
              <a:ext cx="1559160" cy="283212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001000" y="0"/>
              <a:ext cx="1138320" cy="13381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4560" y="0"/>
              <a:ext cx="644760" cy="65412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920" y="0"/>
              <a:ext cx="1359000" cy="22334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920" y="0"/>
              <a:ext cx="930240" cy="94788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920" y="0"/>
              <a:ext cx="425520" cy="3967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392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4004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780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440"/>
              <a:ext cx="9137520" cy="2490480"/>
              <a:chOff x="0" y="622440"/>
              <a:chExt cx="9137520" cy="249048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380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292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8940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588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44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556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168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6DDDF-16E8-4B86-8087-4473CB3C153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CDD31-9D3B-487B-AE55-2DD0B0EBC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3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5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7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6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4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1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2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B3629-0C3F-4616-8D86-EAE1DBC17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ermanculture.com.ua/library/facts/bl_population.htm" TargetMode="External"/><Relationship Id="rId3" Type="http://schemas.openxmlformats.org/officeDocument/2006/relationships/hyperlink" Target="http://www.macombcountymi.gov/mcped/Documents/Diversity/Diversity%20Brochure-Germany.pd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68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opulation Diversity in German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Theme: Cultural Diversity in German Speaking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dc"/>
                </a:solidFill>
                <a:latin typeface="Arial"/>
              </a:rPr>
              <a:t>By: Juliane Baldeweg-R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12920"/>
            <a:ext cx="8229600" cy="94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Cite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88000"/>
          </a:bodyPr>
          <a:p>
            <a:pPr marL="301680" indent="-300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germanculture.com.ua/library/facts/bl_population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macombcountymi.gov/mcped/Documents/Diversity/Diversity%20Brochure-Germany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urkishweekly.net/article/146/turks-in-germany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newsimg.bbc.co.uk/media/images/40581000/jpg/_40581907_colognedemo_203body_afp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mtholyoke.edu/~mamma22j/classweb/turksingermany/german-turks-with-flag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0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piegel.de/images/image-140943-galleryV9-htim.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23dc"/>
                </a:solidFill>
                <a:latin typeface="Arial"/>
              </a:rPr>
              <a:t>Foreign Pop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’s population includes 7.3 million foreigners, including 2 million Turks and many refugees from developing countr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1970, about 3.2 million foreigners have become German citize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introduction of a new citizenship law in 2000, many children of foreign parents became eligible for German citizenship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1988 and 1993, more than 1.4 million refugees, many from the soviet Union, sought asylum i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400" indent="-2754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immigration law that took effect on January 1, 2005, promotes a more open immigration policy, particularly for highly skilled work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31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3dc"/>
                </a:solidFill>
                <a:latin typeface="Arial"/>
              </a:rPr>
              <a:t>German Population according to language and religion</a:t>
            </a: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95% of the population of Germany speak German as their primar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ous immigrant populations retain their native languages, including Turks, Greeks, Italians, Spanish, and Croat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% of the population are Protes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s comprise of 35% of the German popu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360" indent="-285120"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religious minorities include Muslims and J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6926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14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Turks in Germany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spcBef>
                <a:spcPts val="499"/>
              </a:spcBef>
              <a:buNone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s form the largest foreign population in German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1955-1968, there were more open jobs than unemployed people in Germany, so the Government reacted by recruiting workers in the South of Europe. The Turks became the biggest foreign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Turks stayed because they did not earn enough money to start a new business in Turk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erman economy did not want to lose skilled workers and employ new ones who would have to be tr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spcBef>
                <a:spcPts val="4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 only one quarter of the people of Turkish origin came to Germany as workers, while 53% immigrated as family members and 17% of the adult Turks were born in German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spcBef>
                <a:spcPts val="499"/>
              </a:spcBef>
              <a:buNone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6926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028880" y="1266840"/>
            <a:ext cx="2857320" cy="3533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3"/>
          <a:stretch/>
        </p:blipFill>
        <p:spPr>
          <a:xfrm>
            <a:off x="4227480" y="1371600"/>
            <a:ext cx="4230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8040" y="306360"/>
            <a:ext cx="79581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323dc"/>
                </a:solidFill>
                <a:latin typeface="Arial"/>
              </a:rPr>
              <a:t>Quiz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68000"/>
          </a:bodyPr>
          <a:p>
            <a:pPr marL="292320" indent="-220320">
              <a:spcBef>
                <a:spcPts val="7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foreigners populate German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8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6.5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 7.3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9.2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than the Germans, which ethnic group is the largest in Germ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Tu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Gr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tal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320" indent="-2203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Spa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2920"/>
            <a:ext cx="8229600" cy="941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323dc"/>
                </a:solidFill>
                <a:latin typeface="Arial"/>
              </a:rPr>
              <a:t>Answers to the Quiz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5876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spcBef>
                <a:spcPts val="726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 many foreigners populate Germany?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spcBef>
                <a:spcPts val="726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. 7.3 mill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spcBef>
                <a:spcPts val="726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ther than the Germans, which ethnic group is the largest in Germany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spcBef>
                <a:spcPts val="726"/>
              </a:spcBef>
              <a:buClr>
                <a:srgbClr val="ffffff"/>
              </a:buClr>
              <a:buSzPct val="45000"/>
              <a:buFont typeface="Arial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. Turk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1:39:15Z</dcterms:created>
  <dc:creator>SCSadmin</dc:creator>
  <dc:description/>
  <dc:language>en-US</dc:language>
  <cp:lastModifiedBy>User</cp:lastModifiedBy>
  <dcterms:modified xsi:type="dcterms:W3CDTF">2011-09-10T12:42:57Z</dcterms:modified>
  <cp:revision>11</cp:revision>
  <dc:subject/>
  <dc:title>Population Diversity in Germany</dc:title>
</cp:coreProperties>
</file>